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C05E7-93EA-4E87-8390-17E1DAE8C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0E32-33F8-499F-9CC6-17F60316D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07AA-6711-4E2F-A432-C391DBDD3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9944-5369-4B6F-A260-EF88CBB936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0548-9F48-47FF-BB99-615848B6E0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D292A-7DAB-4DA5-80BF-E707B2D97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402C-F300-42E6-AE7E-A2AD76E01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8595-1051-4F9F-9257-53C0BEC42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996B-10BB-42AE-9F61-241457FC2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C520-52E5-4D62-8D44-DF37B8DFD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9CBC-EA52-4940-B8B1-C815BA1E2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8CC9-AFB1-4D54-AA8A-DF9BF2477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B725-4CF2-4017-8B5F-96B975EB78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-5868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627E-5D2B-49B9-A843-D006B53CD6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00200" y="335268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42478"/>
                </a:solidFill>
                <a:latin typeface="Arial"/>
              </a:rPr>
              <a:t>Programming for Students with Learning Dis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K-4 Breakou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Documents and Settings\cchaput\Local Settings\Temporary Internet Files\Content.IE5\7XQV01E3\MC900441717[1].png"/>
          <p:cNvPicPr/>
          <p:nvPr/>
        </p:nvPicPr>
        <p:blipFill>
          <a:blip r:embed="rId3"/>
          <a:stretch/>
        </p:blipFill>
        <p:spPr>
          <a:xfrm>
            <a:off x="152280" y="259092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976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Consolidation: Fraction</a:t>
            </a: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 lesson #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12193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9000"/>
          </a:bodyPr>
          <a:p>
            <a:pPr marL="37872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oose a partner from a different expert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cuss primary fraction lesson #2 -  its learning goals, math content and what to expect from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eate accommodations for this lesson based on all 5 cognitive processes. Use coloured dots to record where accommodations are to be used and write descriptions of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C10F-D598-46FD-AAF6-BD0630A93C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2b5ca9"/>
                </a:solidFill>
                <a:latin typeface="Arial"/>
              </a:rPr>
              <a:t>Reflection – Your Choice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2352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scribe three distinct ways you will use the understandings from these sessions in your tea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ment on the implications of the following quote on your teaching car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Inside every human being there are treasures to unlock.”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ike Huckab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7FC9-4F92-4CE4-A295-43F3CB259F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:\Users\Ian\AppData\Local\Microsoft\Windows\Temporary Internet Files\Content.IE5\2TOLEYWX\MP900399796[1].jpg"/>
          <p:cNvPicPr/>
          <p:nvPr/>
        </p:nvPicPr>
        <p:blipFill>
          <a:blip r:embed="rId1"/>
          <a:stretch/>
        </p:blipFill>
        <p:spPr>
          <a:xfrm>
            <a:off x="7467480" y="279360"/>
            <a:ext cx="152424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5ca9"/>
                </a:solidFill>
                <a:latin typeface="Arial"/>
              </a:rPr>
              <a:t>Minds On: I. E. P. </a:t>
            </a:r>
            <a:r>
              <a:rPr b="1" lang="en-US" sz="2800" spc="-1" strike="noStrike" baseline="-25000">
                <a:solidFill>
                  <a:srgbClr val="2b5ca9"/>
                </a:solidFill>
                <a:latin typeface="Arial"/>
              </a:rPr>
              <a:t>(Individual Education Plan)</a:t>
            </a:r>
            <a:endParaRPr b="0" lang="en-US" sz="2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a partner that you have not yet m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unique set of words to be represented by the acronym IEP that reflects what Connie and Ruth discussed in the plena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.g. YRC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clusion </a:t>
            </a: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gagement </a:t>
            </a: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P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rform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acronyms with the larg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6B2F-B861-4844-9322-59FCAD0EF7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4F1F-00C4-45D8-AA63-056597DF0A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articipant Learning Goals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1219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emonstrate understanding of 5 cognitive processes; verbal comprehension, perceptual reasoning, working memory, processing speed and visual motor integration and executive functio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pply understanding of 5 cognitive processes to program for students with learning disabil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Users\Ian\AppData\Local\Microsoft\Windows\Temporary Internet Files\Content.IE5\2TOLEYWX\MP910216980[1].png"/>
          <p:cNvPicPr/>
          <p:nvPr/>
        </p:nvPicPr>
        <p:blipFill>
          <a:blip r:embed="rId1"/>
          <a:stretch/>
        </p:blipFill>
        <p:spPr>
          <a:xfrm>
            <a:off x="7391520" y="228600"/>
            <a:ext cx="152388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91440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ction: The 5 Cognitive Process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 Compreh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u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Speed/Visual Motor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ve Func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C893-17E5-430B-9532-61F1D602C9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Users\Ian\AppData\Local\Microsoft\Windows\Temporary Internet Files\Content.IE5\2E2O71GO\MC900229685[1].wmf"/>
          <p:cNvPicPr/>
          <p:nvPr/>
        </p:nvPicPr>
        <p:blipFill>
          <a:blip r:embed="rId1"/>
          <a:stretch/>
        </p:blipFill>
        <p:spPr>
          <a:xfrm>
            <a:off x="6934320" y="4419720"/>
            <a:ext cx="1785960" cy="17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Jigsaw Activity: Applying our Learn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42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m Home Groups of 5 me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the primary fraction lesson -  its learning goals, math content and what to expect from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1 slip of the 5 colour coded papers from the set of 5 cognitive processes. You will represent the selected process in the hom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99E9-2499-4EB5-A9D0-432C661E95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7110000" y="4914720"/>
            <a:ext cx="1422000" cy="1387800"/>
            <a:chOff x="7110000" y="4914720"/>
            <a:chExt cx="1422000" cy="1387800"/>
          </a:xfrm>
        </p:grpSpPr>
        <p:sp>
          <p:nvSpPr>
            <p:cNvPr id="67" name="Puzzle3"/>
            <p:cNvSpPr/>
            <p:nvPr/>
          </p:nvSpPr>
          <p:spPr>
            <a:xfrm rot="985800">
              <a:off x="7875000" y="4977360"/>
              <a:ext cx="554040" cy="752760"/>
            </a:xfrm>
            <a:custGeom>
              <a:avLst/>
              <a:gdLst>
                <a:gd name="textAreaLeft" fmla="*/ 57960 w 554040"/>
                <a:gd name="textAreaRight" fmla="*/ 491400 w 554040"/>
                <a:gd name="textAreaTop" fmla="*/ 268920 h 752760"/>
                <a:gd name="textAreaBottom" fmla="*/ 705240 h 75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Puzzle2"/>
            <p:cNvSpPr/>
            <p:nvPr/>
          </p:nvSpPr>
          <p:spPr>
            <a:xfrm rot="985800">
              <a:off x="7568280" y="5505840"/>
              <a:ext cx="884520" cy="685440"/>
            </a:xfrm>
            <a:custGeom>
              <a:avLst/>
              <a:gdLst>
                <a:gd name="textAreaLeft" fmla="*/ 220680 w 884520"/>
                <a:gd name="textAreaRight" fmla="*/ 662760 w 884520"/>
                <a:gd name="textAreaTop" fmla="*/ 213480 h 685440"/>
                <a:gd name="textAreaBottom" fmla="*/ 64872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Puzzle4"/>
            <p:cNvSpPr/>
            <p:nvPr/>
          </p:nvSpPr>
          <p:spPr>
            <a:xfrm rot="985800">
              <a:off x="7222680" y="5347080"/>
              <a:ext cx="533160" cy="876240"/>
            </a:xfrm>
            <a:custGeom>
              <a:avLst/>
              <a:gdLst>
                <a:gd name="textAreaLeft" fmla="*/ 51120 w 533160"/>
                <a:gd name="textAreaRight" fmla="*/ 498960 w 533160"/>
                <a:gd name="textAreaTop" fmla="*/ 229680 h 876240"/>
                <a:gd name="textAreaBottom" fmla="*/ 648000 h 87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Puzzle1"/>
            <p:cNvSpPr/>
            <p:nvPr/>
          </p:nvSpPr>
          <p:spPr>
            <a:xfrm rot="985800">
              <a:off x="7178400" y="5054760"/>
              <a:ext cx="895320" cy="522360"/>
            </a:xfrm>
            <a:custGeom>
              <a:avLst/>
              <a:gdLst>
                <a:gd name="textAreaLeft" fmla="*/ 252000 w 895320"/>
                <a:gd name="textAreaRight" fmla="*/ 668520 w 895320"/>
                <a:gd name="textAreaTop" fmla="*/ 61920 h 522360"/>
                <a:gd name="textAreaBottom" fmla="*/ 472680 h 52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5 Cognitive Process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520" y="15235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al Comprehension (gre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ual Reasoning (pi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Memory (yel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Speed/Visual Motor Integration (b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 Functioning (wh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042E-8863-4418-B17F-7C00C43037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Users\Ian\AppData\Local\Microsoft\Windows\Temporary Internet Files\Content.IE5\2E2O71GO\MC900229685[1].wmf"/>
          <p:cNvPicPr/>
          <p:nvPr/>
        </p:nvPicPr>
        <p:blipFill>
          <a:blip r:embed="rId1"/>
          <a:stretch/>
        </p:blipFill>
        <p:spPr>
          <a:xfrm>
            <a:off x="6934320" y="4419720"/>
            <a:ext cx="1785960" cy="17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Expert Group Activity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me group members split into expert groups organized by cognitive process (about 9 members per expert group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ert groups develop accommodations for the lesson to enable the cognitiv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A8CE-E1F0-49FC-B674-D8AD54F7CF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C:\Users\Ian\AppData\Local\Microsoft\Windows\Temporary Internet Files\Content.IE5\XOO9YNS6\MC900217440[1].wmf"/>
          <p:cNvPicPr/>
          <p:nvPr/>
        </p:nvPicPr>
        <p:blipFill>
          <a:blip r:embed="rId1"/>
          <a:stretch/>
        </p:blipFill>
        <p:spPr>
          <a:xfrm>
            <a:off x="7548480" y="152280"/>
            <a:ext cx="144324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Home Group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600" y="106668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ach member presents the accommodations of their expert group for the les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mbers record accommod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mbers use coloured dots to track cognitive proc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D72A-4CC9-44F3-99FE-845112F119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2819520" y="3733920"/>
            <a:ext cx="624816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Comprehension (gr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ptual Reasoning (p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Memory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ing Speed/Visual Motor Integration (b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ve Functioning (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:\Program Files (x86)\Microsoft Office\MEDIA\CAGCAT10\j0185604.wmf"/>
          <p:cNvPicPr/>
          <p:nvPr/>
        </p:nvPicPr>
        <p:blipFill>
          <a:blip r:embed="rId1"/>
          <a:stretch/>
        </p:blipFill>
        <p:spPr>
          <a:xfrm>
            <a:off x="7840800" y="152280"/>
            <a:ext cx="922320" cy="9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Large Group Report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HA’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did you have as you engaged in this activity? Where were there overlaps in accommoda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imary students don’t usually have IEP’s. How can this understanding of cognitive processes be useful in teaching primary g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3F24-9359-4F00-8F9C-FF36F65AD5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Sandy DiLena</cp:lastModifiedBy>
  <dcterms:modified xsi:type="dcterms:W3CDTF">2012-07-15T23:33:38Z</dcterms:modified>
  <cp:revision>28</cp:revision>
  <dc:subject/>
  <dc:title>&lt;Title&gt;</dc:title>
</cp:coreProperties>
</file>